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4D7-B046-45A6-81D4-86DEBC11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F79-4116-4F27-B9AC-9294C19E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9DD-46C0-43C3-B161-CC8B48F1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155-709C-45A1-8B0D-7EA841E1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6789-423E-4DEE-AFB9-2FCB6244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DDF6-C9A1-441D-B5EE-3E06D050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5D5F-EA69-4269-85FD-9EC8AC3E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8848-827D-44C6-90AE-1ECA3C1C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D50E-D5B9-4EEE-9017-DCE395C0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6AC1-3AE2-4707-94CC-113ACA5A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B22-6603-4563-B72F-01F9250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D59-7368-426C-B560-5AAEBB06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0BD4-2AD1-44FA-92CC-871AFDFC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00CE-BA7D-404B-8FFC-77140E6F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E19C-33D3-40A8-A9DA-B24DACD2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9977-1C68-4D02-A745-8FFAF8C0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E737-E561-489F-86C9-14C51E58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411-B497-4701-A452-7AF75B76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DB7-B176-4595-87AC-C78AEA76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978-1B24-413F-A101-9DCB5F30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457-1114-4933-B478-1F989E94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5A6-645B-4C03-BE5A-03EEAAB5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FA6-64AD-4DBC-97DB-E8A976A3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D25-2AC9-47E5-B215-843BC746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36F8-6A4A-4DDD-B2F1-1C0CFFA11B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B7E2-4EE1-4618-A888-F3AEEC6BDD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-Freshmen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discus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n order to repair youre damaged motorcycle which is all banged in shell have to do a lot of repain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uld of swam to that reef but its to stormy to try t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:touch::audible: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bbly:stable::fuzzy: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ssignment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4:35:39Z</dcterms:created>
  <dc:creator>Angie</dc:creator>
  <dc:description/>
  <dc:language>en-US</dc:language>
  <cp:lastModifiedBy>Angie McCall</cp:lastModifiedBy>
  <dcterms:modified xsi:type="dcterms:W3CDTF">2011-08-29T19:39:55Z</dcterms:modified>
  <cp:revision>3</cp:revision>
  <dc:subject/>
  <dc:title>English-Freshmen</dc:title>
</cp:coreProperties>
</file>